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9C7-A459-48C5-AF96-408C0802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7EE-0652-4426-9522-E5A6D7D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B3D-AF0B-49C6-88BB-F86E1C48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EEA-4C82-4162-92B1-D51D8A95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638-E4F8-4B35-ADDC-ABDB46F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6BA-8D5E-44AD-89C8-3BAC87D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772-C7E5-4775-A530-EAD0631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E5E-6517-46E3-A8BE-7C3D54E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5C9-05CF-4419-8C2C-8E4AC394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0D0-F4AD-4C5F-ADC9-D01D89C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682-19E2-4530-BCE2-CE23124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925-4CC5-4D5A-9FE5-0DB3D7F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388-C7F0-4A12-9B5F-836FC470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7684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62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1:30:37Z</dcterms:created>
  <dc:creator>Joel Kalb</dc:creator>
  <dc:description/>
  <dc:language>en-US</dc:language>
  <cp:lastModifiedBy>Joel Kalb</cp:lastModifiedBy>
  <dcterms:modified xsi:type="dcterms:W3CDTF">2007-05-12T21:45:19Z</dcterms:modified>
  <cp:revision>1</cp:revision>
  <dc:subject/>
  <dc:title>PowerPoint Presentation</dc:title>
</cp:coreProperties>
</file>